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1BC-CE39-4635-8363-AEA4C67C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399-0290-48E5-9BF2-528433A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3D7-25C6-4E45-BFEB-B4825955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100-8518-4D03-A43F-69FDF38B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35D-9086-493B-A9CA-8347A25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797-7710-4946-A7C5-23CCAFD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B51-F000-463F-8F9B-22FC1EA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91B-1DA5-495E-9B87-60D2221B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E80-E78B-4D8A-8D89-DCB6B7E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2A2-770A-4920-99FA-B1990A1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449-76E4-4713-8599-05CFC2D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419-D264-4C7E-8B02-C044347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455-59CE-41DE-A18E-20F77F541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62000"/>
            <a:ext cx="941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Физические и химическ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войства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41360"/>
            <a:ext cx="8820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 активными метал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нее активными металлами (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кроме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Cu, Hg, Ag, Au, Pt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 оксидами активн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 оксидами неметаллов (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кроме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SiO</a:t>
            </a:r>
            <a:r>
              <a:rPr b="1" lang="en-US" sz="2400" spc="-1" strike="noStrike" u="sng" baseline="-25000">
                <a:solidFill>
                  <a:srgbClr val="990000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2000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°C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разлаг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916280"/>
            <a:ext cx="63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К + 2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О = 2КОН + 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997360"/>
            <a:ext cx="39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+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 = М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 +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4076640"/>
            <a:ext cx="44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СаО + 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О = Са(ОН)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522936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5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+ 3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 = 2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6237360"/>
            <a:ext cx="42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 = 2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+ O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000" y="1267920"/>
            <a:ext cx="7514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Вариант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. Напишите три урав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химических реакций, в 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ода была бы исходным веществом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Вариант 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. Напишите три урав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химических реакций, в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ода была бы продуктом реакции.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§ 29 (с. 84—87), упр. 5—7 (с. 87—8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66544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троение молекулы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249360" cy="3843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79640" y="2492280"/>
            <a:ext cx="511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Молекула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сост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из одного атома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и двух атомов водорода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9680" y="404640"/>
            <a:ext cx="619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о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единственное соеди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которое встречается в при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 трех агрегатных состоя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2706840" cy="2030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059280" y="5589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2133360" cy="2689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602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ЁРД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5950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70496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2" name="Picture 7" descr="N171717"/>
          <p:cNvPicPr/>
          <p:nvPr/>
        </p:nvPicPr>
        <p:blipFill>
          <a:blip r:embed="rId5"/>
          <a:stretch/>
        </p:blipFill>
        <p:spPr>
          <a:xfrm>
            <a:off x="6529320" y="2997360"/>
            <a:ext cx="2219400" cy="2690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Физические свойства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441520" cy="3097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40360" y="2492280"/>
            <a:ext cx="431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стр. 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200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 активными металлами (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Li,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К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, Ca, Na,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Ва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13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421000"/>
            <a:ext cx="75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К +  2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О  =  2КОН  +  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06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06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306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06864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идроксид к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7080" cy="2006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нее активными металлами (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роме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Cu, Hg, Ag, Au, Pt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2997360"/>
            <a:ext cx="39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М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+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 = М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 +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3645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3645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3645000"/>
            <a:ext cx="10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ксид маг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3645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г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51280" y="4581360"/>
            <a:ext cx="1878120" cy="19767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. С оксидами актив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349360"/>
            <a:ext cx="44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СаО + Н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О = Са(ОН)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2997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92428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ксид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299736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идроксид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348000" y="3860640"/>
            <a:ext cx="2541600" cy="2589480"/>
            <a:chOff x="3348000" y="3860640"/>
            <a:chExt cx="2541600" cy="2589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348000" y="3860640"/>
              <a:ext cx="2541600" cy="258948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sp>
          <p:nvSpPr>
            <p:cNvPr id="80" name=""/>
            <p:cNvSpPr txBox="1"/>
            <p:nvPr/>
          </p:nvSpPr>
          <p:spPr>
            <a:xfrm>
              <a:off x="3348000" y="3860640"/>
              <a:ext cx="2541600" cy="258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. С оксидами неметаллов (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кроме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SiO</a:t>
            </a:r>
            <a:r>
              <a:rPr b="1" lang="en-US" sz="2800" spc="-1" strike="noStrike" u="sng" baseline="-25000">
                <a:solidFill>
                  <a:srgbClr val="990000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19890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5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+ 3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 = 2H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1" i="1" lang="en-US" sz="2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2637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256536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сфор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2565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ксид фос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1736640" cy="2416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5.   При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2000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°C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злаг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0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Химические свойства 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2708280"/>
            <a:ext cx="453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2H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2H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+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3284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3284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2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исл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2592360" cy="242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7:08:45Z</dcterms:created>
  <dc:creator>User</dc:creator>
  <dc:description/>
  <dc:language>en-US</dc:language>
  <cp:lastModifiedBy>User</cp:lastModifiedBy>
  <dcterms:modified xsi:type="dcterms:W3CDTF">2009-08-09T16:48:30Z</dcterms:modified>
  <cp:revision>16</cp:revision>
  <dc:subject/>
  <dc:title>Слайд 1</dc:title>
</cp:coreProperties>
</file>